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6585"/>
        <c:axId val="20317478"/>
      </c:barChart>
      <c:catAx>
        <c:axId val="92436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7478"/>
        <c:crosses val="autoZero"/>
        <c:auto val="1"/>
        <c:lblAlgn val="ctr"/>
        <c:lblOffset val="100"/>
        <c:noMultiLvlLbl val="0"/>
      </c:catAx>
      <c:valAx>
        <c:axId val="20317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6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526-A843-43B9-A6F7-92CC5012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156-38B2-4D32-86B0-0A3BD4F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484-B934-494A-AA8B-9518D26A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A00-DDA7-46A2-A1A5-398E97A0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C43-B631-4E41-8439-87A51EAC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153-4D8F-4E22-9EE1-FFC648D8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B2B-9962-4EFF-859C-F959C90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DEE-DFC5-4E7B-9128-6809606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2B5-8394-45E5-B8B0-4667E76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586-8AD3-4648-B56F-AFD403D0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79D-03F0-4514-9ACF-896B1A4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643-E6AE-409F-8A3A-E2DF9A4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69160-5ED8-4677-8F83-B2207324C0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