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21065"/>
        <c:axId val="41851685"/>
      </c:barChart>
      <c:catAx>
        <c:axId val="73321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51685"/>
        <c:crosses val="autoZero"/>
        <c:auto val="1"/>
        <c:lblAlgn val="ctr"/>
        <c:lblOffset val="100"/>
        <c:noMultiLvlLbl val="0"/>
      </c:catAx>
      <c:valAx>
        <c:axId val="41851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21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61A-203F-4B18-BB6D-8E579DC5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9AF1-FF6B-4F6E-B551-DA14404C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7C6-5CB4-4DBB-AA72-CCDB4DC5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A7F-4951-4EB0-B743-51AFE594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D5A-B80C-4968-802E-F43FF946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B15-B813-4B4C-B980-4B3313DB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4DA-DB1A-4882-A94F-A770C63A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990-DA3A-4946-9FC3-AC2DA5DE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6A7-C5CF-44BB-A176-34013B69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FAB-1EEC-4968-9008-E603AC52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457-B6CD-4219-BEB1-0CF27762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DDB-50E7-42CF-B946-754F298E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D5B44-376A-430A-85A2-DA96D2C2C9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