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80304"/>
        <c:axId val="16237069"/>
      </c:barChart>
      <c:catAx>
        <c:axId val="751803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37069"/>
        <c:crosses val="autoZero"/>
        <c:auto val="1"/>
        <c:lblAlgn val="ctr"/>
        <c:lblOffset val="100"/>
        <c:noMultiLvlLbl val="0"/>
      </c:catAx>
      <c:valAx>
        <c:axId val="16237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803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7189-AF1E-468D-B8B6-351DFB12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2EB8-1879-4F61-BCC1-D735F309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5A7D-D7CD-4F84-B012-C4B4F555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E1B-C595-4DAB-A6CC-3D7110E6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E627-7111-4773-9DB1-E2CE8470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B84-5C4B-4E4F-AE67-C3D6425A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C5D2-2958-4FD1-84A0-3FD7D286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4FA-81C7-4AA7-85B4-BDF12F85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5D4-709D-4EBC-9003-182AED4D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E4F3-A3B3-4034-95BA-9ED6A721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9E11-80A3-44ED-91DB-AA0E2A90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34F-19DD-4381-BA53-E6C0626F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94CDD-8480-4220-8244-1E00908A92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