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333666"/>
        <c:axId val="53770705"/>
      </c:barChart>
      <c:catAx>
        <c:axId val="903336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70705"/>
        <c:crosses val="autoZero"/>
        <c:auto val="1"/>
        <c:lblAlgn val="ctr"/>
        <c:lblOffset val="100"/>
        <c:noMultiLvlLbl val="0"/>
      </c:catAx>
      <c:valAx>
        <c:axId val="537707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336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CC6D-6DE9-4B84-816E-43318888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F324-6EBF-48BB-879A-3B74AE46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AEE3-F222-40C9-8BDD-B8CE111E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AED7-33CE-4BDC-B8CB-B96D3B48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DBA3-EB50-43FD-8639-8C4903B7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E784-4055-439C-954A-951B83BD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4794-61B6-4524-89C1-5D7B09FE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3A56-4D5C-4D23-ACA9-6D3DC94C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130-3B96-4768-B64F-90C97E00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2C3F-6319-4EAE-B892-75AF64C3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D219-4B6F-4FE2-BF7A-97D65A86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1475-B03E-40F6-B0C4-CA1FAB5B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9F0F2-7ED0-47A3-89B6-A6862F3CAD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