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12936"/>
        <c:axId val="49889711"/>
      </c:barChart>
      <c:catAx>
        <c:axId val="75512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89711"/>
        <c:crosses val="autoZero"/>
        <c:auto val="1"/>
        <c:lblAlgn val="ctr"/>
        <c:lblOffset val="100"/>
        <c:noMultiLvlLbl val="0"/>
      </c:catAx>
      <c:valAx>
        <c:axId val="49889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12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6A5-2A44-4085-A213-719C3F60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DDD-7D5F-4223-ADEC-15606652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872-5317-4496-95A4-33A280C3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49A-8B49-4F5C-AA0D-F7681C1F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0D2-14A9-4BDF-8673-F9774B6F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2F8-9448-47D3-9BA5-9EFDA15E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FEC-886D-47D7-9BD9-38261CA8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837-658D-430C-AA52-EAF8BD1D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DAF-F383-4E15-8F31-D08C1377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EF1-BAB2-412A-93AE-2C3B652C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41E-EC63-4C7E-A4F8-190899BC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D71-020D-4CDE-BD52-8804963B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706E8-D705-4EE6-AABD-6CB3DAB14F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