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37600"/>
        <c:axId val="30732114"/>
      </c:barChart>
      <c:catAx>
        <c:axId val="35037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2114"/>
        <c:crosses val="autoZero"/>
        <c:auto val="1"/>
        <c:lblAlgn val="ctr"/>
        <c:lblOffset val="100"/>
        <c:noMultiLvlLbl val="0"/>
      </c:catAx>
      <c:valAx>
        <c:axId val="30732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37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17F-7628-4FDB-9854-34CCDD88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1CB-DDA5-4FED-9FDE-7D406F7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16D-96EF-43E4-A786-2405274E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659-EB07-493F-A500-72E4B64B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342-4C3B-488D-9DDA-532481C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0A2-2A16-491B-B304-18824B8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1A4-9A56-4C62-9F76-34567C0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834-6964-406A-B3B8-4589F2B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188-C271-496C-B741-64E3C7D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0CF-DE24-48DE-AEA9-1A52D74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5AD-6F14-4560-906F-367DB39A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597-2349-4111-8094-D8ECB27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8DEAB-944B-460D-A27E-98A43BE4F3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