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00782"/>
        <c:axId val="52858156"/>
      </c:barChart>
      <c:catAx>
        <c:axId val="39600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58156"/>
        <c:crosses val="autoZero"/>
        <c:auto val="1"/>
        <c:lblAlgn val="ctr"/>
        <c:lblOffset val="100"/>
        <c:noMultiLvlLbl val="0"/>
      </c:catAx>
      <c:valAx>
        <c:axId val="52858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00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EC8-0EA0-4766-9FF4-3F42E815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127-4CEC-46CC-8F23-66BD09C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42F-2D69-488A-BDDC-7CB56607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5DE-E973-45DB-9750-728B6E45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28E-75F3-49FD-8202-992545BE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7B0-C0F6-4947-9222-C6C5C44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BDD-422D-4C12-9C91-CB9344A1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4AE-2596-4BF8-AA74-AB359559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873-A575-4A1B-9331-834EDBF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BAD-EB2A-4851-BC56-450ADDB3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3CE-021A-4C68-A481-FB69566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818-A8E6-4236-92F9-A040A75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456EC-F1E5-4FB4-B121-99A32EEB9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