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3325842"/>
        <c:axId val="63151392"/>
      </c:barChart>
      <c:catAx>
        <c:axId val="1332584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3151392"/>
        <c:crosses val="autoZero"/>
        <c:auto val="1"/>
        <c:lblAlgn val="ctr"/>
        <c:lblOffset val="100"/>
        <c:noMultiLvlLbl val="0"/>
      </c:catAx>
      <c:valAx>
        <c:axId val="6315139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332584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D24A1-5807-4657-9DE5-7F067AD49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AFDD0-BD21-497D-83F3-E0CDA4A75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89084-9D64-40B2-A277-A590C72CD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E34FC-24EF-471A-AC38-40A4CDA0B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868D0-9098-4E77-9665-D3C8B5F62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22F43-4085-4FCA-A723-7AC8BD70D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63239-F875-4277-A9D0-800858C4E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D53BE-C677-43D0-AAB4-7A6A2BEBB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2C8C2-1815-459A-B19E-93B6994F4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567E4-CA1E-47B3-9E6B-52E7D7230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DAC34-79A0-4A54-AEED-D7C136302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86015-2128-4CE0-A0B4-E143D4E52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4007A2-E65D-428E-9987-DE3C462E005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