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513797"/>
        <c:axId val="34798457"/>
      </c:barChart>
      <c:catAx>
        <c:axId val="95513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98457"/>
        <c:crosses val="autoZero"/>
        <c:auto val="1"/>
        <c:lblAlgn val="ctr"/>
        <c:lblOffset val="100"/>
        <c:noMultiLvlLbl val="0"/>
      </c:catAx>
      <c:valAx>
        <c:axId val="34798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13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FDD1-836D-4E8B-96B8-F5B2E207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7D8-B97F-429B-9FB0-F2B27CEC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798F-F5F1-4BD4-B183-D746FBE6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AAC-B157-45D6-BADD-CADD1C6F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C472-C414-4994-AEC1-16EA4759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E896-D2EE-4165-B2CB-80C75D68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41B2-9F29-46D9-B1AE-0B0C09CD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671E-AA58-449F-B7D4-8BB4646B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8D6-08AB-4C12-8350-FA6DA9F9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FCF2-E9C0-4642-81AD-2D24EE84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42EE-0ECE-43A3-878F-0A8BF124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FDA-D997-4DF6-AFA5-B0A60F17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6C7B4-C2C1-45E3-ACBA-3B1D189B90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