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5990"/>
        <c:axId val="90458173"/>
      </c:barChart>
      <c:catAx>
        <c:axId val="3045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58173"/>
        <c:crosses val="autoZero"/>
        <c:auto val="1"/>
        <c:lblAlgn val="ctr"/>
        <c:lblOffset val="100"/>
        <c:noMultiLvlLbl val="0"/>
      </c:catAx>
      <c:valAx>
        <c:axId val="90458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5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783-277D-4FC6-A528-B112583A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E24-76EA-4748-9FA3-6512B0B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DFE-83ED-48C6-BC13-8123C49D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C44-674D-4F4E-9A37-2B612C3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452-EF72-4CAC-9437-AE47A7B4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7FD-9C4E-4C93-A25C-AA8FB49A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75F-58AF-4F31-9D69-8AE40B9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373-ECC5-4D51-8C4D-053741AA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EC4-DD02-4A4D-A364-0DE9CCA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622-DF58-41A1-9F4E-DEA1D8A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680-A453-47BE-85BD-6D2DD00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0C1-AEDB-4372-9261-43C0C29D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EA7E-5942-4C54-8EB7-586B28734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