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38050"/>
        <c:axId val="52311691"/>
      </c:barChart>
      <c:catAx>
        <c:axId val="99438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11691"/>
        <c:crosses val="autoZero"/>
        <c:auto val="1"/>
        <c:lblAlgn val="ctr"/>
        <c:lblOffset val="100"/>
        <c:noMultiLvlLbl val="0"/>
      </c:catAx>
      <c:valAx>
        <c:axId val="52311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38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2A8-DFE4-4DA4-BF96-40EF7616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D63-E89A-428E-AE1A-81DC54B6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E4E-22EA-49AF-997D-BA65BE15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D92-A22C-4ED2-B9C1-275800D9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9A7-F200-4E50-A0D0-4872E151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C52-AEA1-4888-AC6E-FA46834B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22E-DD22-4DA7-A133-C390075A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EF5-25AC-4A22-BD14-83A25DD6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3A9-A70B-4E59-B7FA-31FADC56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EDB-5E7F-4CA3-8677-04262249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373-03F6-4E7C-B2F0-A0F4E08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ACC-335A-48E3-932B-06DA9545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BBDF3-655F-4024-8FFD-7D8E0E8C80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