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33761"/>
        <c:axId val="8874619"/>
      </c:barChart>
      <c:catAx>
        <c:axId val="13133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4619"/>
        <c:crosses val="autoZero"/>
        <c:auto val="1"/>
        <c:lblAlgn val="ctr"/>
        <c:lblOffset val="100"/>
        <c:noMultiLvlLbl val="0"/>
      </c:catAx>
      <c:valAx>
        <c:axId val="8874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33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655-73F4-473E-BD63-91545CA6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CE0-E379-46B1-A401-8669A5A4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E5A-179E-4506-B45B-B8C35377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70A-4130-4B09-94E5-45BB3CE1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A17-4AA3-4D68-86EA-CDB10B7B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BB1-66C3-46A6-81BF-A9881CE5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2EE-6E13-4762-B187-01D5663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853-8D7D-4D76-812D-E9FA5E06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A97-1870-497E-9A53-51E88523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421-4851-47FC-B570-2A4203A3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54C-F86C-497E-9149-5B86EE99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920-3FE8-4BB4-8C41-BB0C9DCA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97FB6-059D-449F-83B2-DA1B6B388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