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54874"/>
        <c:axId val="42727684"/>
      </c:barChart>
      <c:catAx>
        <c:axId val="57854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27684"/>
        <c:crosses val="autoZero"/>
        <c:auto val="1"/>
        <c:lblAlgn val="ctr"/>
        <c:lblOffset val="100"/>
        <c:noMultiLvlLbl val="0"/>
      </c:catAx>
      <c:valAx>
        <c:axId val="42727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54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48B-0742-41C3-B65D-133EB292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897-2251-492A-96BA-969D6C32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529-5D15-42D9-A7DD-0E96C6AE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150-4350-4CC2-8600-0CC2880F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630-EA76-480C-862C-E2C3038C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E47-342F-462B-B8D5-ABB4544F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E57-190F-491F-A6BA-9F8F4BAB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B12-6FA6-47A3-8DD9-89F3983A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B23-5A66-44B6-925F-015378D9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E30-6799-452D-B065-0DE01990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EA6-9E04-445A-906F-783C166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CB9-B0E6-4E3B-AA28-FD2FE34C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FF756-04B5-4360-87CC-EAD78287FC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