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59657"/>
        <c:axId val="88263970"/>
      </c:barChart>
      <c:catAx>
        <c:axId val="524596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63970"/>
        <c:crosses val="autoZero"/>
        <c:auto val="1"/>
        <c:lblAlgn val="ctr"/>
        <c:lblOffset val="100"/>
        <c:noMultiLvlLbl val="0"/>
      </c:catAx>
      <c:valAx>
        <c:axId val="88263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596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A2A-6DE9-4C6F-B087-E3A525BD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3C7-5614-4FE8-B2E1-9C3B006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127-FBCE-42C8-B8E0-E4A6A91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0C4-7988-4F84-8CB6-10D754D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27B-CE4A-4306-9DF2-4C4171E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209-2AC4-47AE-862C-B19250EC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1BD-8752-4186-8698-21C770BE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8A6-7FF2-4F55-AF11-80E5DEE3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216-B35A-4492-A476-AACEBC7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A70-7384-4CD1-9457-14699D42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179-B615-43EF-8282-14075446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FDE-D262-4997-B26F-660DB7CD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92246-3CBC-4688-A158-FF2C8CB5CB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