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37887"/>
        <c:axId val="31624079"/>
      </c:barChart>
      <c:catAx>
        <c:axId val="69537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24079"/>
        <c:crosses val="autoZero"/>
        <c:auto val="1"/>
        <c:lblAlgn val="ctr"/>
        <c:lblOffset val="100"/>
        <c:noMultiLvlLbl val="0"/>
      </c:catAx>
      <c:valAx>
        <c:axId val="31624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37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19E-8BB1-446D-92B9-D289596C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4D1-3D5F-4755-89D2-5CF48FF0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2AD-F9EF-45F4-B14A-63D9D2E5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84D-15BB-410C-88D3-0A40B16B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A9D-9C38-45A1-8143-6094D937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0F3-F6D9-4253-BB8D-AA915DD9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F09-8B6C-4822-BB6F-F08A2AB9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79A-88DB-4A4A-A61D-91487B60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BF1-C146-4502-95DC-F23B0DCD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209-1D41-4C8D-A9BA-574205F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F32-94AA-4513-9122-1EA18789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D24-2D7C-47AE-BC7C-BD45B43A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EE991-CD5D-4C5F-BC49-C9DF4F297F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