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31573"/>
        <c:axId val="77015774"/>
      </c:barChart>
      <c:catAx>
        <c:axId val="15531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15774"/>
        <c:crosses val="autoZero"/>
        <c:auto val="1"/>
        <c:lblAlgn val="ctr"/>
        <c:lblOffset val="100"/>
        <c:noMultiLvlLbl val="0"/>
      </c:catAx>
      <c:valAx>
        <c:axId val="77015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31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07A-47A8-424E-8FC4-A7423766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2CF-5376-46C4-8817-775A4B8F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B9B-04A4-448B-89D9-EDF8D5B1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29E-AC17-437E-A600-DF219E21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065-18D7-4442-8241-609F1EEF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6B1-7D5C-4479-8205-325CEA10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B66-4573-429C-A854-EBD00944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51B-39A4-48F1-86E7-21502137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A11-7156-4FF3-992B-A2390299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EE0-A5B3-4930-AC25-8AF3B54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7EF-0AC7-41A9-A016-80CCC7B0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3BB-852E-4846-AC52-FB1DC81F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C6602-EADB-4C27-8128-BF8FD9DB7C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