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85562"/>
        <c:axId val="54029038"/>
      </c:barChart>
      <c:catAx>
        <c:axId val="41385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9038"/>
        <c:crosses val="autoZero"/>
        <c:auto val="1"/>
        <c:lblAlgn val="ctr"/>
        <c:lblOffset val="100"/>
        <c:noMultiLvlLbl val="0"/>
      </c:catAx>
      <c:valAx>
        <c:axId val="54029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5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CBF-FD17-4B62-8C83-76B1EA8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E51-D87B-41CC-B226-C6B126A4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63A-45C6-4CA9-B812-F3C8EFA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FEA-CD26-4741-B86D-91807A88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373-BC14-4549-B579-FE021B8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ADF-E62E-4D6E-9365-F36CDF97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714-E9F1-4EC6-90A7-BEC7C71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CC2-4EFD-4975-8DDB-176F7EA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D26-A61D-4EE7-83C0-B7C84A3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77D-9A24-430D-AC93-04C33AA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490-7386-4C41-AB03-6FEF762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ADE-BB53-49F3-BA04-7CDEDD9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29B9-0D10-47C5-9789-96E58D59A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