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561021"/>
        <c:axId val="47185353"/>
      </c:barChart>
      <c:catAx>
        <c:axId val="775610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185353"/>
        <c:crosses val="autoZero"/>
        <c:auto val="1"/>
        <c:lblAlgn val="ctr"/>
        <c:lblOffset val="100"/>
        <c:noMultiLvlLbl val="0"/>
      </c:catAx>
      <c:valAx>
        <c:axId val="471853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5610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C057-1F15-433C-96BD-AAF330853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BCF7-34B9-4E20-BFCA-ADCDE440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1E8D-22C5-4C34-BB2F-BC7004450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3F46-4374-47E9-B552-9591CFEEC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C75C-D3F4-41A4-9CB0-BD4193A3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7695-3C08-449A-83B8-F3E6A237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F225-972A-46BE-BB7A-2D84386F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CD1D-A3C8-41CB-9F93-CF4905C8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1DE8-4330-46A1-9BC5-A5925DD8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1F29-8918-4735-9F37-B3567EF2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BA0C-37DB-4221-969F-3C768C5F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88F6-06A4-4660-9710-C743C385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74B64-893B-4C2C-A304-CAE1C8EA0E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