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0012552"/>
        <c:axId val="75691824"/>
      </c:barChart>
      <c:catAx>
        <c:axId val="6001255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691824"/>
        <c:crosses val="autoZero"/>
        <c:auto val="1"/>
        <c:lblAlgn val="ctr"/>
        <c:lblOffset val="100"/>
        <c:noMultiLvlLbl val="0"/>
      </c:catAx>
      <c:valAx>
        <c:axId val="7569182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01255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D33B1-60C9-4483-B363-7AB602204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4ADB6-C355-45B7-B8CB-E694455B4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EE679-0F0C-4D7D-9884-D38B768B3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CFC52-2017-474C-999C-04E8A5FAC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C7B63-2D79-41EB-BF17-D6C154BA4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64C3A-2DEE-48D9-8949-1D97D1B59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8ECCC-60E6-493E-9D6D-0847BE207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8D2BD-DE7A-435E-838A-AC7CAB0D0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699EB-CE9A-46B6-A44F-1FBBBCCBB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17FAC-E5AB-4C4B-8657-02D7B4A62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259E7-DF91-4145-A7F8-81F0C8AF0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FD453-B59E-4DA7-8A82-9EDDE4FE9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5744CF-80B1-42A9-B531-4191F71A01C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