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92339"/>
        <c:axId val="97989819"/>
      </c:barChart>
      <c:catAx>
        <c:axId val="60692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89819"/>
        <c:crosses val="autoZero"/>
        <c:auto val="1"/>
        <c:lblAlgn val="ctr"/>
        <c:lblOffset val="100"/>
        <c:noMultiLvlLbl val="0"/>
      </c:catAx>
      <c:valAx>
        <c:axId val="97989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2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1BB-0912-4C84-BAFE-A5D79FC1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AB0-F332-4A3D-96CE-4F9515BD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4A3-521E-4B4C-8561-823575C6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CE4-1CB4-4DF9-8801-6183FAB3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DDB-ACE9-427B-BD23-890A22A3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19D-F372-440F-84D3-698812E7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25D-D707-4DC7-A627-3EF5D03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9A5-0F36-435A-AD68-201B45CE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8C9-0A6C-4985-BB1D-020B303E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0EA-8FC7-4376-92AE-25320A4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6D0-D2DE-41C5-88D8-E8528630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F4E-E497-4B0B-94D3-77DE65D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D9CA3-70F3-42C3-A7A7-2C0B520F00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