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48725"/>
        <c:axId val="42003719"/>
      </c:barChart>
      <c:catAx>
        <c:axId val="53148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3719"/>
        <c:crosses val="autoZero"/>
        <c:auto val="1"/>
        <c:lblAlgn val="ctr"/>
        <c:lblOffset val="100"/>
        <c:noMultiLvlLbl val="0"/>
      </c:catAx>
      <c:valAx>
        <c:axId val="42003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8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1CB-0CBD-4CBA-A092-7BB4C385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E5B-7372-481E-BA2E-651E55F1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8E7-E12C-46E6-BBF6-6A1E3288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138-AC93-4EA5-8BE4-8F736A0F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CB6-80C0-4758-812E-AA356B76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95A-9065-4079-8976-4442E16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D21-1A9B-46EE-8457-87841F5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792-D4BD-479F-8346-663D98D1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D7B-AE47-43E8-8B5F-633EFE9E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5C9-D489-47C2-89DC-48D2EA2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976-F5BE-4CD3-A2E1-D3CE0772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DD1-01BD-41EE-9D9D-BA0FA1D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DD733-8EC1-422E-983C-AE9DC9C4D9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