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61279"/>
        <c:axId val="43552410"/>
      </c:barChart>
      <c:catAx>
        <c:axId val="33361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52410"/>
        <c:crosses val="autoZero"/>
        <c:auto val="1"/>
        <c:lblAlgn val="ctr"/>
        <c:lblOffset val="100"/>
        <c:noMultiLvlLbl val="0"/>
      </c:catAx>
      <c:valAx>
        <c:axId val="43552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61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7FE-5774-4EB6-B70E-A05B0733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E08-7627-4F21-B727-45C693AC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CBA-6A69-4693-A4B1-C84219DC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402-FA52-403E-AF1F-B9A3A107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30D-7434-4FF1-A480-9A44995C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21D-3EA2-410B-9996-23C1A66B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98E-2BB5-43D7-83AD-318B1785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4D8-6BA8-4E94-9AA0-CAE6FA39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828-11A6-4B4E-B1BC-AA9F2AA9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390-05F1-47BA-A8A3-AB41C8C6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9B9-9E3E-4F9F-8D56-DC0DF9E4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A8E-A030-4273-976A-6FE3B143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82AEC-F092-4F7B-BFE1-44EA480D7F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