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55853"/>
        <c:axId val="21579393"/>
      </c:barChart>
      <c:catAx>
        <c:axId val="80955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79393"/>
        <c:crosses val="autoZero"/>
        <c:auto val="1"/>
        <c:lblAlgn val="ctr"/>
        <c:lblOffset val="100"/>
        <c:noMultiLvlLbl val="0"/>
      </c:catAx>
      <c:valAx>
        <c:axId val="21579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55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98C-62A8-4B4D-BA1B-FF9F13FE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AA9-2626-40C9-8C4E-68F37867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4B1-403F-440D-AE29-F15EEC94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30D-984A-447D-8E33-931CEE49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E7E-94F6-495B-9146-B770BFF2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3B4B-4C78-4488-B9CC-F0023787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A90-347E-4F79-A960-290D38F2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A74-EBD5-420C-A127-F503338A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19B-C025-4AE5-A99C-A85FBE5F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268-D0A2-4FEE-B93C-A982486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4B4-719F-4C04-A875-FACBF8E3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405-FCC4-454B-B11A-FB05AF0E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12339-94A5-4558-8E67-720691272F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