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32005"/>
        <c:axId val="76073033"/>
      </c:barChart>
      <c:catAx>
        <c:axId val="86932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73033"/>
        <c:crosses val="autoZero"/>
        <c:auto val="1"/>
        <c:lblAlgn val="ctr"/>
        <c:lblOffset val="100"/>
        <c:noMultiLvlLbl val="0"/>
      </c:catAx>
      <c:valAx>
        <c:axId val="76073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32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34F-1034-4FCE-96F0-A5EA2899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881-458F-4AA0-881A-0BE388E6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50D-8826-4060-A7CE-0CB0379B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685B-C014-4FB9-89FB-79354929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6EA-E0F7-4D7B-A4A0-1A0A8D7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C53-EA61-4B85-A9FD-F8474E1B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707-E079-4606-B14A-EA4466BC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C19-99C7-40FA-AFC2-5863432B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BD2-1EB1-42D8-8E17-6B27B8AE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115-4A8A-4496-A8E8-29BBFD7B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252-FA1E-4CA2-808B-2971D9C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A38-5D8B-4510-9051-127E35BB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F4556-FFE0-42A4-A68E-CE6577998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