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43225"/>
        <c:axId val="94186226"/>
      </c:barChart>
      <c:catAx>
        <c:axId val="88943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86226"/>
        <c:crosses val="autoZero"/>
        <c:auto val="1"/>
        <c:lblAlgn val="ctr"/>
        <c:lblOffset val="100"/>
        <c:noMultiLvlLbl val="0"/>
      </c:catAx>
      <c:valAx>
        <c:axId val="94186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43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378-33A0-4083-BFF2-37AC18AD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E63-4BB4-4A90-9A40-E031F3AD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2F8-DED7-4DCE-B418-4CBEA7C1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274-2EF6-4637-A178-5810A5BF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57D-D38A-44FC-B177-CA20DC08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45E-F448-4646-88B8-9E492E1A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442-9DF2-4292-9FA6-63AA5F17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6C7-45A0-49A8-9006-21CE6EDC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5F8-2065-4D50-950F-DB792655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C5F-B58F-4FC1-960B-7A08161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2D6-E760-4D5B-8E26-793DB76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0B4-DEEF-4194-910C-9AA92F92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E7FC1-0EB9-4809-B869-B0751BE14F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