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13238"/>
        <c:axId val="50597160"/>
      </c:barChart>
      <c:catAx>
        <c:axId val="59113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97160"/>
        <c:crosses val="autoZero"/>
        <c:auto val="1"/>
        <c:lblAlgn val="ctr"/>
        <c:lblOffset val="100"/>
        <c:noMultiLvlLbl val="0"/>
      </c:catAx>
      <c:valAx>
        <c:axId val="50597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13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C88-37CB-420B-8A26-AB819CB1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795-4651-48BA-BDE7-01EF5E07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BE8-4396-449C-9B64-EE512628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237-CB5E-4784-A332-E4249BED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921-C16F-4FD7-9396-CD88A332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6CA-793A-4586-8D89-776ED6C7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16D-FE76-41F8-A923-665DCCB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835-72D4-4B88-85C7-10FDA4F4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2BF-1C20-4971-9EE4-8804E9A9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01F-FA49-451C-80CB-8E36B9E6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F51-39ED-4642-B50F-2789FA26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5A9-D67E-4435-A589-BCF78D9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C3E23-AE83-459A-A7A6-56428E147B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