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50146"/>
        <c:axId val="94850972"/>
      </c:barChart>
      <c:catAx>
        <c:axId val="95550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50972"/>
        <c:crosses val="autoZero"/>
        <c:auto val="1"/>
        <c:lblAlgn val="ctr"/>
        <c:lblOffset val="100"/>
        <c:noMultiLvlLbl val="0"/>
      </c:catAx>
      <c:valAx>
        <c:axId val="94850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50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A0C-6CEB-4B83-8738-5336CFC6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AC2-99D1-49F7-9EE8-1ABFB44C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960-67AC-473D-A4C0-D60734E8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C8C-16C6-4453-A2FB-11438015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FB0-F904-44EA-BEDD-AB20EB4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D8B-7169-4BD9-A365-F4D72565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DAE-8AC7-40C8-89A9-8CDFB3B2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839-E524-4199-8440-A2488E35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1D4-A93C-4916-A395-4D3A68F6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A2C-DD5F-49E1-B97A-D4BC853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0D5-A748-4629-A890-49001C9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F05-D52D-4DBC-B81D-BB13E0B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0928D-F99E-466E-B865-E296C1E14D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