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929660"/>
        <c:axId val="84634508"/>
      </c:barChart>
      <c:catAx>
        <c:axId val="239296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34508"/>
        <c:crosses val="autoZero"/>
        <c:auto val="1"/>
        <c:lblAlgn val="ctr"/>
        <c:lblOffset val="100"/>
        <c:noMultiLvlLbl val="0"/>
      </c:catAx>
      <c:valAx>
        <c:axId val="846345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296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380F-DE77-418E-90EF-0172081D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CC9A-DD8F-43C6-96A0-A3AF34F4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66BD-0C47-4724-B01A-58E4794A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16DA-1AB9-421F-8443-0CBD6F6C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59C4-6A57-4607-B5B6-3D880D1A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97F2-059F-40BC-A4A4-12C631FE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174C-50E6-47B0-8A89-19260C5D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FD92-568C-4B64-A2C0-2055BF21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1A10-33F8-492B-AA21-3196BAC0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47A3-068B-496B-8A5F-61317018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116A-2DAA-413F-8212-5296B09C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0E2C-D6C0-4F30-AF98-5F062408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9E0A5-C438-4525-91F4-74E84A31A2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