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018595"/>
        <c:axId val="15832222"/>
      </c:barChart>
      <c:catAx>
        <c:axId val="890185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832222"/>
        <c:crosses val="autoZero"/>
        <c:auto val="1"/>
        <c:lblAlgn val="ctr"/>
        <c:lblOffset val="100"/>
        <c:noMultiLvlLbl val="0"/>
      </c:catAx>
      <c:valAx>
        <c:axId val="158322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0185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058F-1859-47A8-B687-81DA1185A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C3AF-8E8B-400A-98A7-52FBCD80B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ABCC-B0CF-48ED-A1F8-98BADAF83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2DF5-FD13-42A0-AC34-370C54B5D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3113-53A6-40DF-A70C-FF75F1C45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3B90-E173-4CC1-8DF2-250AAB23F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7920-23DE-4CB5-9EA6-56BCB1E53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FFEC-DE62-4C16-BB6F-4EDEC971E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A324-B4E1-418C-8A66-9719C7391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A018-F518-4645-BC43-0A7F8889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8A25-9B93-4153-8B84-CE30D901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2EC9-9E5B-4D9A-BD60-E28773769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C85827-00C0-4CC0-A3FD-E8E697895C3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