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643499"/>
        <c:axId val="38287680"/>
      </c:barChart>
      <c:catAx>
        <c:axId val="376434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87680"/>
        <c:crosses val="autoZero"/>
        <c:auto val="1"/>
        <c:lblAlgn val="ctr"/>
        <c:lblOffset val="100"/>
        <c:noMultiLvlLbl val="0"/>
      </c:catAx>
      <c:valAx>
        <c:axId val="38287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434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2AB5-7CF2-46BA-B121-38FE28A2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5469-C623-497E-918E-F75B350C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188-3F6B-4878-B8C5-09D052F6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639E-0A30-427B-B6BF-79D9FED6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67CE-90D4-4C31-895D-E8624492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2F30-21F2-4521-BBC7-AA765B81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17C-B99F-4097-8CAC-ACE93476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63AA-F5A8-430D-BA0C-7657BA42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6EC-48A9-4155-8E2C-E32D86F3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6974-D214-462A-BE32-14FD3607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9774-0C49-4395-A269-911106C5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306-556E-41A8-ADE4-FFCF9FFA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599F1-623C-4D1E-A4F7-358A1ADB5E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